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A99-AF3E-4099-8FD7-8E83B0EE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CE7-C6B0-449B-988E-77778478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DA0-2C17-49E6-95E1-049F046F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CCF-95FD-450B-ACBA-6240F4C1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B96-2995-4196-94D5-E13E6D5A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ACE-3B9A-43F1-A2FD-B8DA871D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DDD-749B-498C-93E0-B3F01A4A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1D4-A663-42A0-8DAE-0D79E246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EAE-6AA1-474D-98CF-4172400B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79D-CBB8-44B6-A616-4E256AF7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B3A-DC1B-41EF-80E8-42CCEB9C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D26-5F48-46B2-80C8-91F6BBD3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8980D-8041-473F-878D-328876D835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BDFF3-E532-4CC5-85E6-B168A133064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0:11:49Z</dcterms:created>
  <dc:creator>최봉수</dc:creator>
  <dc:description/>
  <dc:language>en-US</dc:language>
  <cp:lastModifiedBy>맛있다 군만두</cp:lastModifiedBy>
  <dcterms:modified xsi:type="dcterms:W3CDTF">2023-07-13T07:43:36Z</dcterms:modified>
  <cp:revision>3</cp:revision>
  <dc:subject/>
  <dc:title>슬라이드 1</dc:title>
</cp:coreProperties>
</file>