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D2B-A41E-4024-A20A-E0BD11ED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F7C-D128-4BF8-8580-6A2ECE9C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D82-A039-4B85-B07B-9C2528E6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9CE-0AE6-47AD-9FD8-C9D175DC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BA2-DADB-44EC-BB8F-E0C09674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E3B-F9EC-4230-B6CA-65314749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B59-D15F-4E41-97EC-2557A32E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768-0B1C-49C3-AFEB-8E1018FC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F4D-4A8C-41D4-A79A-2C863219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618-693E-4379-B472-6D12C3BF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99F-FA3D-4A76-AB25-85559D3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962-F90D-4A51-9485-72A90B71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C9839-261E-42AD-94BB-AC6EC95465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C4727-50E0-4034-B7BD-E67FE2D1C02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0:11:49Z</dcterms:created>
  <dc:creator>최봉수</dc:creator>
  <dc:description/>
  <dc:language>en-US</dc:language>
  <cp:lastModifiedBy>맛있다 군만두</cp:lastModifiedBy>
  <dcterms:modified xsi:type="dcterms:W3CDTF">2023-07-13T07:43:36Z</dcterms:modified>
  <cp:revision>3</cp:revision>
  <dc:subject/>
  <dc:title>슬라이드 1</dc:title>
</cp:coreProperties>
</file>