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3.png" ContentType="image/png"/>
  <Override PartName="/ppt/media/image7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D657-B057-4D4A-90AD-9E01EE99C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7DAB-1A1D-4445-B425-F8C905708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709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68600"/>
            <a:ext cx="50292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B21D-393D-4F8B-A3D0-8D98760D8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709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68600"/>
            <a:ext cx="50292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view of correct pos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9E71-DBC2-4CAB-A0F7-98E7ED0F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709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68600"/>
            <a:ext cx="50292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758C-D1AD-4076-A7B8-115C41838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709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68600"/>
            <a:ext cx="50292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should be completed by moving the handle in a wide circle so the toe remains fixed for rotation, otherwise one is carving vaginal side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DDB9-2820-4F1A-9F93-8D879FA2D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709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68600"/>
            <a:ext cx="50292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irection - depends on station; based on axis of partu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mount - use force of forearm only (elbow bent) combine with maternal expulsive eff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17A-EC3C-4D53-B211-DB8A9232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B04-79D9-43CE-8FD0-1348740B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7EE-62C4-4A92-AE5B-CA02A3E3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84D-178E-4314-931D-284EEEB1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ADE0-524F-4EEC-A935-98B2C724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1798-2C38-47C8-95A6-5355ED5C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C81E-8C9B-41A5-B871-B8515F75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1B7B-6A5A-4A05-B58F-A8B0D4AB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1AA1-E921-43FF-9F0E-F18F0AEA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BB79-6EEA-41C0-B944-A1A18C5C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8267-8913-4CB6-848A-3A629F48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135-C412-4A73-B3A7-CD206DDD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FA24-12E0-4B96-BB88-457CDB74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9E18-33A2-493B-A938-F41615FF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16DF-20D9-481C-894F-9D644669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C40F-5DAB-4DBE-833A-B729B9D0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1EDE-0C5B-448F-AD56-16BBBB21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B8F-D03B-4947-8E99-3A104018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EBB-EC57-4534-8BFC-868D12DE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79C-37A5-4DD6-9B62-775CD85C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B70-6490-48B3-B163-23AC85B8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A90-F980-44B1-938A-48D1CA85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953-B311-4F9C-80E6-33E72B0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D1A-73EF-4AF8-ADEE-786F2C9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1C73-6D5E-4054-94F8-57FD7AFC56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1678-32B4-44B7-9903-7C10A53480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43000" y="1905120"/>
            <a:ext cx="7010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STETRI OPERATIF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991080" y="5133960"/>
            <a:ext cx="71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Dr. Muhamad Taufiqy Setyabudi, Sp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/>
          <p:nvPr/>
        </p:nvSpPr>
        <p:spPr>
          <a:xfrm>
            <a:off x="-212040" y="1357200"/>
            <a:ext cx="9150840" cy="4848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INDIKASI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Ibu : - Eklamsi/preeklam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R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ny. Jantung, paru &amp; sistemik ber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Bekas perlukaan dd rahim ( BC, Miomektomi dl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Edema vul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Ibu kelelah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Janin : - Gawat jan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Tangan / kaki / tl pst menumb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resentasi 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Kesulitan melahirkan kepala pd sungs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3. Obstetri : - Indikasi Pinard, Deep transverse arrest, PO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artus mac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50000">
                      <a:srgbClr val="fae3b7"/>
                    </a:gs>
                    <a:gs pos="100000">
                      <a:srgbClr val="fbe4ae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50000">
                    <a:srgbClr val="fae3b7"/>
                  </a:gs>
                  <a:gs pos="100000">
                    <a:srgbClr val="fbe4ae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/>
          <p:nvPr/>
        </p:nvSpPr>
        <p:spPr>
          <a:xfrm>
            <a:off x="234360" y="2414520"/>
            <a:ext cx="8745480" cy="3933360"/>
          </a:xfrm>
          <a:prstGeom prst="rect">
            <a:avLst/>
          </a:prstGeom>
          <a:solidFill>
            <a:srgbClr val="ffcc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INDIKASI KON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Disproporsi janin-pangg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SYAR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1. Pembukaan serviks lengk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2. Kepala janin sudah cakap ( engaged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             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sedikitnya H III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3. Kepala janin hrs dpt dipegang dg fors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empus Sans ITC"/>
              </a:rPr>
              <a:t>4. Ketuban sudah pecah / dipec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12880" y="914400"/>
            <a:ext cx="7246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7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ya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epala sudah masuk pintu atas pangg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erviks  dilatasi sempurna dan ketuban pec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engetahui dengan pasti posisi kepala bay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anggul ibu adeku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ndung kencing ibu kos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anastesi yg sesu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perator yg berpengala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tersedianya pendukung dan fasilitas yang adeku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7880" y="6019920"/>
            <a:ext cx="78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eb9"/>
                </a:solidFill>
                <a:latin typeface="Times New Roman"/>
              </a:rPr>
              <a:t>Forceps must </a:t>
            </a:r>
            <a:r>
              <a:rPr b="0" lang="en-US" sz="2000" spc="-1" strike="noStrike" u="sng">
                <a:solidFill>
                  <a:srgbClr val="fcfeb9"/>
                </a:solidFill>
                <a:uFillTx/>
                <a:latin typeface="Times New Roman"/>
              </a:rPr>
              <a:t>never</a:t>
            </a:r>
            <a:r>
              <a:rPr b="0" lang="en-US" sz="2000" spc="-1" strike="noStrike">
                <a:solidFill>
                  <a:srgbClr val="fcfeb9"/>
                </a:solidFill>
                <a:latin typeface="Times New Roman"/>
              </a:rPr>
              <a:t> be before full dilatation or with an unengaged verte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50000">
                      <a:srgbClr val="5e9eff"/>
                    </a:gs>
                    <a:gs pos="100000">
                      <a:srgbClr val="ffebfa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50000">
                    <a:srgbClr val="5e9eff"/>
                  </a:gs>
                  <a:gs pos="100000">
                    <a:srgbClr val="ffebfa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51460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( litotomi, desinfeksi, pakai duk steril  d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rsiapan janin (PELAKSANAAN EKSTR.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a.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b. Teknik ekstraks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c.  Pembenahan kemb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a.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rsiapan ibu resusitasi s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rsiapan alat (forseps, jahit, anestesi, obat, epis d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517680" y="1284120"/>
            <a:ext cx="7788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b. Teknik ( ada 7 langkah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Merencanakan pemasangan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Penempatan daun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3. Mengunc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4. Evaluasi penempatan daun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5. Ekstraksi percob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6. Pelaksanaan rotasi &amp; ekst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7. Melepas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c. Pembenahan kemb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Bila dibawah narkose : plasenta manu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mberian uteroton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njahitan kembali episioto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engawasan kala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-15840" y="1073160"/>
            <a:ext cx="824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MACAM EKSTRAKS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L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Untuk UUK melint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Miring terhadap kepala, miring thd pangg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Forseps depan pasang dulu, baru belak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utar forseps agar UUK berada dibwh simfi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Ekst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114800"/>
            <a:ext cx="1219320" cy="914400"/>
          </a:xfrm>
          <a:prstGeom prst="ellipse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33720" y="6171840"/>
            <a:ext cx="533160" cy="3049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19320" y="5334120"/>
            <a:ext cx="533160" cy="3045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809880" y="5866920"/>
            <a:ext cx="76320" cy="3812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4876560" y="5409720"/>
            <a:ext cx="75960" cy="3812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5791320"/>
            <a:ext cx="6858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14400" y="4114800"/>
            <a:ext cx="1219320" cy="914400"/>
            <a:chOff x="914400" y="4114800"/>
            <a:chExt cx="1219320" cy="914400"/>
          </a:xfrm>
        </p:grpSpPr>
        <p:sp>
          <p:nvSpPr>
            <p:cNvPr id="167" name=""/>
            <p:cNvSpPr/>
            <p:nvPr/>
          </p:nvSpPr>
          <p:spPr>
            <a:xfrm>
              <a:off x="914400" y="411480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066680" y="4343400"/>
              <a:ext cx="1040040" cy="459720"/>
              <a:chOff x="1066680" y="4343400"/>
              <a:chExt cx="1040040" cy="459720"/>
            </a:xfrm>
          </p:grpSpPr>
          <p:sp>
            <p:nvSpPr>
              <p:cNvPr id="169" name=""/>
              <p:cNvSpPr/>
              <p:nvPr/>
            </p:nvSpPr>
            <p:spPr>
              <a:xfrm>
                <a:off x="1066680" y="4572000"/>
                <a:ext cx="838440" cy="0"/>
              </a:xfrm>
              <a:prstGeom prst="line">
                <a:avLst/>
              </a:prstGeom>
              <a:ln w="12600">
                <a:solidFill>
                  <a:srgbClr val="ff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53920" y="43434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ff"/>
                    </a:solidFill>
                    <a:latin typeface="Times New Roman"/>
                  </a:rPr>
                  <a:t>&lt;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770560" y="4340880"/>
            <a:ext cx="1039320" cy="459720"/>
            <a:chOff x="2770560" y="4340880"/>
            <a:chExt cx="1039320" cy="459720"/>
          </a:xfrm>
        </p:grpSpPr>
        <p:sp>
          <p:nvSpPr>
            <p:cNvPr id="172" name=""/>
            <p:cNvSpPr/>
            <p:nvPr/>
          </p:nvSpPr>
          <p:spPr>
            <a:xfrm flipH="1">
              <a:off x="2971800" y="4572000"/>
              <a:ext cx="838080" cy="0"/>
            </a:xfrm>
            <a:prstGeom prst="line">
              <a:avLst/>
            </a:prstGeom>
            <a:ln w="1260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2770560" y="4340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ff"/>
                  </a:solidFill>
                  <a:latin typeface="Times New Roman"/>
                </a:rPr>
                <a:t>&lt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85840" y="5257080"/>
            <a:ext cx="915120" cy="1220040"/>
            <a:chOff x="3885840" y="5257080"/>
            <a:chExt cx="915120" cy="1220040"/>
          </a:xfrm>
        </p:grpSpPr>
        <p:sp>
          <p:nvSpPr>
            <p:cNvPr id="175" name=""/>
            <p:cNvSpPr/>
            <p:nvPr/>
          </p:nvSpPr>
          <p:spPr>
            <a:xfrm rot="16202400">
              <a:off x="3733560" y="540972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114800" y="5284440"/>
              <a:ext cx="460080" cy="1040040"/>
              <a:chOff x="4114800" y="5284440"/>
              <a:chExt cx="460080" cy="104004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4343040" y="5486040"/>
                <a:ext cx="720" cy="838440"/>
              </a:xfrm>
              <a:prstGeom prst="line">
                <a:avLst/>
              </a:prstGeom>
              <a:ln w="12600">
                <a:solidFill>
                  <a:srgbClr val="ff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202400">
                <a:off x="4168080" y="52308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ff"/>
                    </a:solidFill>
                    <a:latin typeface="Times New Roman"/>
                  </a:rPr>
                  <a:t>&lt;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1371600" y="5410080"/>
            <a:ext cx="1219320" cy="914400"/>
            <a:chOff x="1371600" y="5410080"/>
            <a:chExt cx="1219320" cy="914400"/>
          </a:xfrm>
        </p:grpSpPr>
        <p:sp>
          <p:nvSpPr>
            <p:cNvPr id="180" name=""/>
            <p:cNvSpPr/>
            <p:nvPr/>
          </p:nvSpPr>
          <p:spPr>
            <a:xfrm>
              <a:off x="1371600" y="541008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523880" y="5638680"/>
              <a:ext cx="1040040" cy="459720"/>
              <a:chOff x="1523880" y="5638680"/>
              <a:chExt cx="1040040" cy="459720"/>
            </a:xfrm>
          </p:grpSpPr>
          <p:sp>
            <p:nvSpPr>
              <p:cNvPr id="182" name=""/>
              <p:cNvSpPr/>
              <p:nvPr/>
            </p:nvSpPr>
            <p:spPr>
              <a:xfrm>
                <a:off x="1523880" y="5867280"/>
                <a:ext cx="838440" cy="0"/>
              </a:xfrm>
              <a:prstGeom prst="line">
                <a:avLst/>
              </a:prstGeom>
              <a:ln w="12600">
                <a:solidFill>
                  <a:srgbClr val="ff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11120" y="5638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ff"/>
                    </a:solidFill>
                    <a:latin typeface="Times New Roman"/>
                  </a:rPr>
                  <a:t>&lt;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976320" y="51465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                           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390680"/>
            <a:ext cx="861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MACAM EKSTRAKS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SCANZ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Utk UUK di belakang/ ka-ki belak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2 tahap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Memutar kpl jnn kedepan, shg UUK melint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Seperti cara L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666880" y="5334120"/>
            <a:ext cx="1447560" cy="1142640"/>
            <a:chOff x="2666880" y="5334120"/>
            <a:chExt cx="1447560" cy="1142640"/>
          </a:xfrm>
        </p:grpSpPr>
        <p:sp>
          <p:nvSpPr>
            <p:cNvPr id="188" name=""/>
            <p:cNvSpPr/>
            <p:nvPr/>
          </p:nvSpPr>
          <p:spPr>
            <a:xfrm>
              <a:off x="2819160" y="541008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581280" y="6171840"/>
              <a:ext cx="533160" cy="3049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666880" y="5334120"/>
              <a:ext cx="533160" cy="30456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0" y="5240520"/>
            <a:ext cx="1142640" cy="1252800"/>
            <a:chOff x="4572000" y="5240520"/>
            <a:chExt cx="1142640" cy="1252800"/>
          </a:xfrm>
        </p:grpSpPr>
        <p:sp>
          <p:nvSpPr>
            <p:cNvPr id="192" name=""/>
            <p:cNvSpPr/>
            <p:nvPr/>
          </p:nvSpPr>
          <p:spPr>
            <a:xfrm rot="16329000">
              <a:off x="4572000" y="540972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4572000" y="5866920"/>
              <a:ext cx="76320" cy="3812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5638680" y="5409720"/>
              <a:ext cx="75960" cy="3812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178280" y="5227920"/>
            <a:ext cx="996120" cy="1279440"/>
            <a:chOff x="1178280" y="5227920"/>
            <a:chExt cx="996120" cy="1279440"/>
          </a:xfrm>
        </p:grpSpPr>
        <p:sp>
          <p:nvSpPr>
            <p:cNvPr id="196" name=""/>
            <p:cNvSpPr/>
            <p:nvPr/>
          </p:nvSpPr>
          <p:spPr>
            <a:xfrm rot="5163000">
              <a:off x="1066680" y="5410080"/>
              <a:ext cx="1219320" cy="914400"/>
            </a:xfrm>
            <a:prstGeom prst="ellipse">
              <a:avLst/>
            </a:prstGeom>
            <a:noFill/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461960" y="5411160"/>
              <a:ext cx="483120" cy="1053720"/>
              <a:chOff x="1461960" y="5411160"/>
              <a:chExt cx="483120" cy="1053720"/>
            </a:xfrm>
          </p:grpSpPr>
          <p:sp>
            <p:nvSpPr>
              <p:cNvPr id="198" name=""/>
              <p:cNvSpPr/>
              <p:nvPr/>
            </p:nvSpPr>
            <p:spPr>
              <a:xfrm>
                <a:off x="1645200" y="5411160"/>
                <a:ext cx="57600" cy="836280"/>
              </a:xfrm>
              <a:prstGeom prst="line">
                <a:avLst/>
              </a:prstGeom>
              <a:ln w="12600">
                <a:solidFill>
                  <a:srgbClr val="ff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5163000">
                <a:off x="1526760" y="60429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ff"/>
                    </a:solidFill>
                    <a:latin typeface="Times New Roman"/>
                  </a:rPr>
                  <a:t>&lt;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 flipV="1">
            <a:off x="1066680" y="5638680"/>
            <a:ext cx="0" cy="4572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209680" y="5638680"/>
            <a:ext cx="0" cy="4572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33640" y="58546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5000" y="5616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181480" y="5486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006160" y="5170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7720" y="50706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                    2                      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12880" y="1905120"/>
            <a:ext cx="7318440" cy="3600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216040" y="6172200"/>
            <a:ext cx="37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: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Human Labour &amp; Birt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Harry Oxor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44480" y="1828800"/>
          <a:ext cx="7361280" cy="36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4480" y="1828800"/>
                    <a:ext cx="736128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03040" y="914040"/>
            <a:ext cx="8669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17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Memeriksa Pemasangan – “Posisi untuk Keaman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Ubun-ubun kecil di tengah antara batang forseps dan satu jari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 di atas bidang datar dari tangkai forseps dengan sutura lambdoid satu jari di atas tiap tang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Masuknya tangkai harus nyaris tak terasa dan tidak lebih dari seujung jari dapat diselipkan antara tangkai forseps dengan kepala bay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empus Sans ITC"/>
              </a:rPr>
              <a:t>Sutura sagitalis tegak lurus  terhadap bidang datar dari tangkai fors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12880" y="3295800"/>
            <a:ext cx="3792600" cy="28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41440" y="3124080"/>
          <a:ext cx="3825720" cy="293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440" y="3124080"/>
                    <a:ext cx="3825720" cy="29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538520" y="1461960"/>
            <a:ext cx="3927600" cy="193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4605480" y="1447920"/>
          <a:ext cx="3960720" cy="19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5480" y="1447920"/>
                    <a:ext cx="396072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490760" y="19810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empus Sans ITC"/>
              </a:rPr>
              <a:t>Rota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71200" y="6095880"/>
            <a:ext cx="102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n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96640" y="3657600"/>
            <a:ext cx="226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alah (Ouch!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6040" y="6172200"/>
            <a:ext cx="37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: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Human Labour &amp; Birt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Harry Oxor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32920" y="30240"/>
            <a:ext cx="66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Tempus Sans ITC"/>
              </a:rPr>
              <a:t>INDIKASI MENGAKHIRI PERSALIN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92120" y="485640"/>
            <a:ext cx="8715240" cy="271512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A. INDIKASI IB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1. Ancaman robekan rah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2. Ibu kelelah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3. Perdarahan heb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4. Peny. Ibu yang berat : jantung, paru, demam ting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5. Preeklampsia berat/ eklamps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6. Edema jalan lah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325680"/>
            <a:ext cx="7696080" cy="161784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B. INDIKASI A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1. Gawat jan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2. Tali pusat menumb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3. Presentasi 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5092560"/>
            <a:ext cx="7848720" cy="167868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C. INDIKASI WAKTU / PROFILAK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1. Partus l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2. Partus tak ma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3. Partus macet : DTA, POP, Pin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53960" y="1600200"/>
            <a:ext cx="7174080" cy="472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1219320" y="1295280"/>
          <a:ext cx="7216560" cy="476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295280"/>
                    <a:ext cx="72165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5840" y="624852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From: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Human Labour &amp; Birth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, Harry Oxor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01560" y="1600200"/>
            <a:ext cx="17460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Trak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)  ara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)  jumla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29580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Saat diameter biparietal kepala masuk pintu atas pangg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empus Sans ITC"/>
              </a:rPr>
              <a:t>Saat bagian terendah kepala berada di atau di bawah spina ishiadika (station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4626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880" y="-76320"/>
            <a:ext cx="7788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Rounded MT Bold"/>
              </a:rPr>
              <a:t>FORCEPS MNEMONIC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76520" y="738360"/>
          <a:ext cx="6248160" cy="61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38360"/>
                    <a:ext cx="6248160" cy="61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828800" y="2362320"/>
            <a:ext cx="5410080" cy="13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ima kasih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320" y="2473200"/>
            <a:ext cx="2263680" cy="157212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C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MENGAKHI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SALIN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4040" y="1166760"/>
            <a:ext cx="2131560" cy="45972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ANAK HID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3760" y="4964040"/>
            <a:ext cx="1925640" cy="45972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ANAK M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31560" y="176040"/>
            <a:ext cx="4048560" cy="155700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VAGINAM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Ekstraks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Ekstraksi Vak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Versi ekstraksi/ekstr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174760"/>
            <a:ext cx="3657600" cy="82548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ABDOM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Bedah Cae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7720" y="3519360"/>
            <a:ext cx="4578840" cy="228852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VAGINAM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Embrioto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Dekapita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Perforasi + Kraniokla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Eviscerasi / Eksentera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- Spondiloto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23000" y="5985000"/>
            <a:ext cx="4163760" cy="82548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ERABDOM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Histeroto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38280" y="1676160"/>
            <a:ext cx="533520" cy="160020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3276720"/>
            <a:ext cx="609840" cy="167616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962520" y="685440"/>
            <a:ext cx="1066680" cy="68580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371600"/>
            <a:ext cx="1066680" cy="114300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571640"/>
            <a:ext cx="990720" cy="60948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5181480"/>
            <a:ext cx="990720" cy="1219320"/>
          </a:xfrm>
          <a:prstGeom prst="line">
            <a:avLst/>
          </a:prstGeom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40560" y="936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Tempus Sans ITC"/>
              </a:rPr>
              <a:t>ISTIL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743040"/>
            <a:ext cx="8763120" cy="814068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1. Partus l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ersalinan yang berlangsung sampai 18   jam / leb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2. Partus tak ma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Tidak ada kemajuan dalam jalannya persalinan kala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baik dalam pembukaan serviks, penurunan kepala at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utaran paks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3. Partus macet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Bayi tidak lahir setelah   dipimpin mengejan (kala 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beberapa s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DTA : Janin letak kepala, turun didasar panggul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sutura sagitalis lintang, telah dipimpin beberap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saat tidak lah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POP : sd DTA dengan UUK di poster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Indikasi Pinard : Janin letak kepala, UUK depan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empus Sans ITC"/>
              </a:rPr>
              <a:t>dipimpin mengejan 1 jam tidak lah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40560" y="936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Tempus Sans ITC"/>
              </a:rPr>
              <a:t>ISTIL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355760"/>
            <a:ext cx="8763120" cy="6492960"/>
          </a:xfrm>
          <a:prstGeom prst="rect">
            <a:avLst/>
          </a:prstGeom>
          <a:noFill/>
          <a:ln w="1260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4. Partus spon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ersalinan yang berlangsung pervaginam a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kekuatan ibu sendi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5. Partus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ersalinan spontan, aterm, keadaan ibu dan a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baik, berlangsung tidak lebih dari 18 jam, ber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badan janin antara 2500 - 4000 g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6. Partus tindakan / bua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ersalinan yang diakhiri dengan suatu tindak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obst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609480" y="2209680"/>
            <a:ext cx="8001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1219320"/>
            <a:ext cx="8305920" cy="1371600"/>
          </a:xfrm>
          <a:prstGeom prst="rect">
            <a:avLst/>
          </a:prstGeom>
          <a:solidFill>
            <a:srgbClr val="ffffb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143280" y="1351080"/>
            <a:ext cx="87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empus Sans ITC"/>
              </a:rPr>
              <a:t>Adalah persalinan buatan dg cara mengadakan rotasi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empus Sans ITC"/>
              </a:rPr>
              <a:t>ekstraksi dg alat forseps yg dipasang pada kepala jan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empus Sans ITC"/>
              </a:rPr>
              <a:t>sehingga janin lah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221040" y="3352680"/>
            <a:ext cx="9437400" cy="27759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BAGIAN FORS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Daun forseps : untuk mencekam kepala jan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dg 2 lengkung : lengkung kepala &amp; pangg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Tangkai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3. Kunci forseps : ada bbrp macam : Inggris, jerman, peranc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4. Pemegang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1440"/>
          <a:ext cx="6705720" cy="50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67057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343400" y="3259080"/>
          <a:ext cx="4800600" cy="359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259080"/>
                    <a:ext cx="480060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1600" y="1219320"/>
            <a:ext cx="647712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33720" y="304920"/>
            <a:ext cx="487656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8000"/>
                  </a:outerShdw>
                </a:effectLst>
                <a:latin typeface="Impact"/>
              </a:rPr>
              <a:t>ekstraksi forsep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25751" dir="18900000" blurRad="0" rotWithShape="0">
                  <a:srgbClr val="008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1110240" y="1247760"/>
            <a:ext cx="643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IPE FORS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Ada beberapa macam a.l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1. Naegele            3. Simp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2. Kielland           4. Pi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544680" y="3487680"/>
            <a:ext cx="10286280" cy="3020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PENGGUNAAN FORS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1. Forseps tinggi : sekarang tidak dilakukan la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2. Forseps tengah : - Kepala jnn sudah lewat P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Operator hrs tahu betul kead &amp; anatomi pangg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Gerakan sesuai putaran pa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3. Forseps rendah : - Kepala sudah didasar pgg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- Paling sedikit risikon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empus Sans ITC"/>
              </a:rPr>
              <a:t>4. Forseps utk After coming head : pada letak sungs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5:34:00Z</dcterms:created>
  <dc:creator>Green Beret of Commandos</dc:creator>
  <dc:description/>
  <dc:language>en-US</dc:language>
  <cp:lastModifiedBy>vaio</cp:lastModifiedBy>
  <dcterms:modified xsi:type="dcterms:W3CDTF">2007-04-04T02:02:16Z</dcterms:modified>
  <cp:revision>25</cp:revision>
  <dc:subject/>
  <dc:title>No Slide Title</dc:title>
</cp:coreProperties>
</file>