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3C1C-EB83-40D7-9D96-61C06732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2773-80E2-48E7-8DB2-ACAE205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89C6-EA04-49CE-87AD-8863E49F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848D-1D05-4516-8305-4B6EFE25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D7B-76C1-4BDC-8F07-9514C166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80B5-E4DE-4CE6-967B-00221887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9FE6-F7D3-41E3-BDA0-7073E34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67FE-C53D-4ED5-A1DC-EA6F5AC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4B8F-958F-45AC-AE1C-362B675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018-F72F-4468-9B73-11C6F3E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7E66-55EA-43A7-A001-1A75227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C0CC-A524-42BD-8192-DCBADB5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384-430B-4440-8B8A-156163D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092E-E850-4CCB-BE1D-F1ADB82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826-A54F-45D2-A08E-26D8100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5FF-B1CF-42EF-961F-F430B7DA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D4D6-0D81-4953-A148-84B04DA2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59A9-41E3-41A7-BC41-2BF797D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8121-F68D-4999-9AB7-4B6CA27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9AB4-78A3-4A20-983A-E8F34E2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E49-DDF2-43F5-B59B-8208329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A3C6-11C0-4454-9CE1-A9DA0CF3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8E9E-7E02-4D37-B190-9FA195A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3E65-7F77-4B94-BD27-5985C8CB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4C10-1B08-405B-A373-6AE364831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ED2-0446-47D5-8B3B-577028774F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4800" spc="-1" strike="noStrike">
                <a:solidFill>
                  <a:srgbClr val="dfdef6"/>
                </a:solidFill>
                <a:latin typeface="Arial"/>
              </a:rPr>
              <a:t>ادوية السبيل المعدي المعوي</a:t>
            </a:r>
            <a:br>
              <a:rPr sz="4800"/>
            </a:b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drugs</a:t>
            </a: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GASTROINTESTINAL</a:t>
            </a:r>
            <a:r>
              <a:rPr b="1" i="1" lang="en-GB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Arial"/>
              </a:rPr>
              <a:t>الاستاذ الدكتور عبد الناصر عمرين</a:t>
            </a:r>
            <a:r>
              <a:rPr b="1" lang="ar-SY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كلية  الصيدلة – قسم السموم وعلم تأثير الادو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جامعة دمشق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dfdef6"/>
                </a:solidFill>
                <a:uFillTx/>
                <a:latin typeface="Arial"/>
              </a:rPr>
              <a:t>* بيكربونات الصوديوم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الاطراح : يطرح الجزء الممتص في البو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قلاء استقلاب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** 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omeprazole ( Naxiu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eprazole ( Prilosec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soprazole ( Prevacid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prazole ( Protonix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eprazole ( Aciphex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جميع مثبطات مضخة البروتون تنتهي بالمقط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zo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** 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maco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عط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استقلاب كبدي بوساطة ا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4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طراح : تُطرَح المستقلبات في البول و البر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ثبيط إفراز الحمض على نحو متعذَّر العكس ( تتطلب إنزيمات جديدة لإفراز الحمض على نحو طبيعي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جري تفعيلها عندما تُفرَز في البيئة الحمضية للمعد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ُهضَم غطاء القرص في الاثنا عشر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oden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و يُطلق الدواء و يُمتص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رض القلس المعدي المريئ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تهاب المري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قرحات المحدثة ب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AID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تلاز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llinger - Ellison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de Effect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سه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rh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غثي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مسا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صد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دوخ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zz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III</a:t>
            </a: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 - الأدوية الأخرى في معالجة الأمراض المعدية المعوية 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 الأتروبين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ropine ( Sal - Tropin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الصن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: ضاد للموسكارينية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carivic antagon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و إنشاقا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al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كبدي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يُطرَح الدواء الأصلي و مستقلباته في البول ( تطرح مقادير صغيرة في البراز وفي هواء الزفي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hal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نقص إفراز الحمض الأساسي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الاستخدامات السرير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كعامل مضاد للإفرا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secretory ag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ستخدم مع محصرات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أو في حالات ال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المعاند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ندما تكون ضواد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غير فعال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 التأثيرات الجانبية المضادة للكولينرج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Bismuth Subsalicylate ( Peto Bismol )</a:t>
            </a:r>
            <a:br>
              <a:rPr sz="3200"/>
            </a:b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الصِنْف : مركب بزموت غرواني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olloidal bismuth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يستقلب في السبيل المعدي المعوي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تطرَح مستقلباته في البول و البرا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امل حامي للمخاط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زيد افراز المخاط ، الذي يُكوِّن حاجِزاً تجاه انتشار الحمض إلى القرح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حلّ الملوّيات / المنحنيات البوابية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icobacter py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التأثيرات الجانب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عتلال دما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ephalopath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مع الاستخدام طويل الأمد أو فرط الجرعة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do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ميزوبروستول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Misoprostol ( Cytotec )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مضاهي للبروستاغلاندين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E1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يستقلب على نحو كبير في المرور الأول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يطرح معظم الدواء الأصلي و مستقلباته في البول ؛ الباقي في البرا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امل حامي للمخاط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ثبط افراز الحمض المعدي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وقاية من القرحات المحدثة بال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A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ألم البط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سكرالفات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Sucralfate ( Carafate )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الصِنْف :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Aluminum sucrose sulfate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عط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في البراز بدون تبدّ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عامل حامي للمخاط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هلامية متبلمر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izing g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 يتبلمر عند الباهاء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 تلتصق بمكان القرحة و تحميها مما يسمح بالالتئا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أثيراتها الجانبية قليلة بسبب الامتصاص القلي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Ondansetron ( zofran )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ضاد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5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 -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HT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تقلاب : كبد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تطرح المستقلبات في ال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حصر مستقبلات السيروتوني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مركزياً و محيط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قد يعمل على انقاص فعل ال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في منطقة استثارة المستقبل الكيميائ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receptor trigger zone ( CTZ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ضاد للقي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em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تأثيرات الجانب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Prochlorperazine ( Compazine )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فينوثيازين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phenothiazin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و مستقيميا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آلية التأثير : يحصر مستقبلات الدوبام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في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مضاد للقي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أثيرات خارج هرم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pyramidal side effects EP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مع الجرعات الضخم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ركين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4400" spc="-1" strike="noStrike">
                <a:solidFill>
                  <a:srgbClr val="dfdef6"/>
                </a:solidFill>
                <a:latin typeface="Arial"/>
              </a:rPr>
              <a:t>ادوية السبيل المعدي المعوي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محصرات ا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 BLOCK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ضواد ا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 H2 - Receptor Antagoni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مضادات الحموضة و مثبطات مضخة البروت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ACI‎DS AND PROTON PUMP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الأدوية الأخرى في معالجة أمراض السبيل المعدي المع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EDICATIONS FOR TREATING GI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مداواة التوليفية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Therap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مقرات عمل بعض الأدوية المستخدمة في معالجة مرض القرحة الهضم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 of Action of Some Drugs Used to Treat P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henodiol ( Chenix )</a:t>
            </a:r>
            <a:br>
              <a:rPr sz="3200"/>
            </a:b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- الصنف : مشتقات الحموض الصفراوية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Bile acid derivativ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تقلاب : كب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تطرح المستقلبات في البرا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ثبط تكوين الحصيات الصفراو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بوساطة إنقاص إفراز الحموض الصفراوية من الكب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ضاد للحصيات الصفراو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choleli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سه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2400" spc="-1" strike="noStrike">
                <a:solidFill>
                  <a:srgbClr val="dfdef6"/>
                </a:solidFill>
                <a:latin typeface="Arial"/>
              </a:rPr>
              <a:t>Ursodiol ( Actigall )</a:t>
            </a:r>
            <a:br>
              <a:rPr sz="2400"/>
            </a:br>
            <a:r>
              <a:rPr b="1" i="1" lang="en-GB" sz="2400" spc="-1" strike="noStrike">
                <a:solidFill>
                  <a:srgbClr val="dfdef6"/>
                </a:solidFill>
                <a:latin typeface="Arial"/>
              </a:rPr>
              <a:t>- من صنف مشتقات الحموض الصفراوية و له حرائك دوائية مماثلة لسابقه 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ثبط تكوين الحصيات الصفراو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st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بآلية غير معرو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قد يعمل من خلال تثبيط تخليق الكوليستيرول في الكبد و إنقاص امتصاص الكوليستيرول مما يجعل الكوليستيرول ذواباً من الحصيات الصفراوية الموجود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مضاد للحصيات الصفراو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elit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ألم الظه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* الميتوكلوبراميد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Metoclopramide ( Reglan )</a:t>
            </a:r>
            <a:br>
              <a:rPr sz="2800"/>
            </a:b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- الصِنف : محصر للدوبامين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DA blocker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نطراح : يطرح الدواء الأصلي و مستقلباته في ال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نبه حركية المعدة بتثبيط استرخاء العضلات الملساء المعدية المحرِّض بالدوبامي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- induced gastric smooth muscle relax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 مما يسمح بحدوث توت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كولينيرجي غير مُعاكس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كسل المعد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a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ها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نعا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أثيرات خارج هر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* المداواة ال</a:t>
            </a:r>
            <a:r>
              <a:rPr b="1" i="1" lang="ar-SY" sz="3200" spc="-1" strike="noStrike">
                <a:solidFill>
                  <a:srgbClr val="dfdef6"/>
                </a:solidFill>
                <a:latin typeface="Arial"/>
              </a:rPr>
              <a:t>ت</a:t>
            </a: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وليفية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OMBINATION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THERAPIES</a:t>
            </a:r>
            <a:br>
              <a:rPr sz="2800"/>
            </a:br>
            <a:r>
              <a:rPr b="1" i="1" lang="en-GB" sz="4000" spc="-1" strike="noStrike">
                <a:solidFill>
                  <a:srgbClr val="dfdef6"/>
                </a:solidFill>
                <a:latin typeface="Arial"/>
              </a:rPr>
              <a:t>* ضاد المستقبلة 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H2</a:t>
            </a:r>
            <a:r>
              <a:rPr b="1" i="1" lang="en-GB" sz="4000" spc="-1" strike="noStrike">
                <a:solidFill>
                  <a:srgbClr val="dfdef6"/>
                </a:solidFill>
                <a:latin typeface="Arial"/>
              </a:rPr>
              <a:t> مع المضادات الحيوية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عالجة القرحات الهض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itidine + amoxicilline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مضاعفات : مهم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* المداواة الثلاثية المعتمدة على البزمو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tec ( bismuth citrate + ranitidine 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مضادين حيويين مث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ythromycin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racycline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thromycin + amox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أ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dac ( bismuth subsalicyl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ضاد ل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تتراسيكلين و مترونيداز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المداواة ال</a:t>
            </a:r>
            <a:r>
              <a:rPr b="1" i="1" lang="ar-SY" sz="2800" spc="-1" strike="noStrike">
                <a:solidFill>
                  <a:srgbClr val="dfdef6"/>
                </a:solidFill>
                <a:latin typeface="Arial"/>
              </a:rPr>
              <a:t>ت</a:t>
            </a: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وليفية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COMBINATION THERAPIES</a:t>
            </a:r>
            <a:br>
              <a:rPr sz="2800"/>
            </a:b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* ضاد المستقبلة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H2</a:t>
            </a: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 مع المضادات الحيوية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معالجة القرحات الاثناعشرية أو المعدية بوجود عدوى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pyl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تأثيرات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جانبي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كثيرة الحدوث مثل الاسهال ، و الغثيان و القياء ، وعدم ارتياح البطن و الصداع مما يجعل الامتثال مشكلة من قبل المري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جب إعطاء المعالجة الثلاثية لأن استخدام مضاد حيوي مفرد للقضاء على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pylor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يؤدي إلى نشوء مقاومة سريعة تجاه الدو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*** مثبطات مضخة البروتون مع مضادين حيويين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أوميبرازول / لانزوبرازول + مضادين حيوين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كلاريتروميسين + مترونيداز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تتراسيكلين + مترونيداز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كلاريتروميسين + أموكسيسيلين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عالجة القرحات الاثنا عشرية أو المعدية بوجود عدوى 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.pyl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لمثبطات مضخة البروتون تأثيراً كابحاً للنم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ostat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على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. pylor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الملويات البوابية لا تقاوم الأموكسيسيلين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مضاعفا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قد تؤدي هذه التوليفات إلى اسهال و غثيان و قياء و عدم ارتياح البطن و الصدا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يجب يجب إعطاء المعالجة التوليفية لأن استخدام المعالجة المضادة للافراز وحيدةً لن تقضي على عدوى الملويات / المنحنيات البوابي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ضواد المستقبلة </a:t>
            </a: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* السيميتيدين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metidine ( Tagamet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maco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ُعط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, IM , 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بيولوجي فمويا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عمر النص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ساعا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كبد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إزالة الفعل / الاطراح : تُطرح المستقلبات و الدواء الأصلي في الب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آلي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التأثير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يُنقِص افراز الحمض المعدي بتثبيطه التنافسي للمستقبل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 إنها آلية التأثير لجميع ضواد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اللاحق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dfdef6"/>
                </a:solidFill>
                <a:uFillTx/>
                <a:latin typeface="Arial"/>
              </a:rPr>
              <a:t>* السيميتيدين </a:t>
            </a:r>
            <a:r>
              <a:rPr b="1" i="1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Cimetidine ( Tagamet 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 / الإكلينيك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nical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يشفي القرحات المعدية و المعوية و يقي من رجوعها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تهاب المري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تلاز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llinger - Ellison syndr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وقاية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hylaxi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من القرحات الاثنا عشر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oden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مُحدَثَة ب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A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للوقاية من القرحات المُحدثة بالكرب / الشدة النفس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 هذه الاستخدامات لجميع ضواد المستقبل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لاحق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de Effects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dyscra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تخليط مركز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con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حديث غير واض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urred spee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و تخليط عند المسنين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تثدي عند الذك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ynecomasti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بالاستخدام طويل الأمد بسبب فعله المضاد للأندروجين ( يحصر إنتاج و إطلاق التستوستيرون ؛ يمكن استخدمه لراغبي تغيير الجن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sexua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حيث يُطَوِّر الثدي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يثبط مجموعة السيتوكرو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45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، مؤدياً إلى التآثرات الدوائ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dfdef6"/>
                </a:solidFill>
                <a:uFillTx/>
                <a:latin typeface="Arial"/>
              </a:rPr>
              <a:t>الفاموتيدين </a:t>
            </a: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Famotidine ( Pepcid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عطاء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توافره البيولوجي الفمو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h =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ستقلاب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يستقلب مقدار صغير منه في الكبد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زالة المفعول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يُزال / يُطرَح معظمه في الب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تأثيرات الجانبية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شذوذات كبد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patic abnormaliti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التهاب كبد مع الغاموتيدين ، شذوذات في اختبارات وظائف الكبد مع النيزاتيدين و التهاب كبد قابل للعك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ib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مع الرانيتيدين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صد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دوخ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zz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سه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ن هذه التأثيرات الجانبية تنطبق على ضوا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لاحقة أيضاً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النيزاتيدين </a:t>
            </a: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Nizatidine ( Axid 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بيولوجي الفمو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استقلاب كبد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½ = 1.1 - 1.6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في البول ( مقدار صغير في البراز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الرانيتيدين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itidine ( Zantac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الحرائك الدوائ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فمو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- 2.4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يستقلب على نحو شديد في العبور ألأ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زالة / الإطراح : في البول و البر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II</a:t>
            </a: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 - مضادات الحموضة و مثبطات مضخة البروتون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* هيدروكسيد الألمن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الحرائك الدوائ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لا يمتص على نحو ها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طراح : في البراز ؛ يطرح القسم الممتص في الب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( لجميع مضادات الحموضة اللاحقة أيضاً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عد مضادات الحموضة أسساً ضعيفة تتفاعل مع حمض المعدة لإنتاج الملح و الم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زيد الباه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المعد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زال فعالية الببس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عندما تكون الباهاء المعدية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&lt;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مضادات الحموضة 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Antacids</a:t>
            </a:r>
            <a:br>
              <a:rPr sz="4000"/>
            </a:b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* هيدروكسيد الألمنيوم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لجميع مضادات الحموضة المذكورة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فريج أعراض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relie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لمرض القرحة الهض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 مرض القلس المعدي المريئ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 esophageal reflux disese GE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 التهاب المريء و فرط الحموضة المع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أمونة الاستخدام أثناء الحم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فضلة لشفاء القرحات الاثناعشرية مقارنة مع القرحات المع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مسا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نقص بوتاسيوم الد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kalem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dfdef6"/>
                </a:solidFill>
                <a:latin typeface="Arial"/>
              </a:rPr>
              <a:t>* كربونات الكالسيوم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عطا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يمت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فرط كالسيوم الد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cal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قلاء استقلاب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lkal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نقص بوتاسيوم الد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 هيدروكسيد المغنزيوم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لا يمتص على نحو ها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طراح : يطرح الجزء الممتص في الب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ذو تأثير مسهل قو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lax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4:08:48Z</dcterms:created>
  <dc:creator>DR RASHAD</dc:creator>
  <dc:description/>
  <dc:language>en-US</dc:language>
  <cp:lastModifiedBy>tar</cp:lastModifiedBy>
  <dcterms:modified xsi:type="dcterms:W3CDTF">2007-03-25T16:51:33Z</dcterms:modified>
  <cp:revision>8</cp:revision>
  <dc:subject/>
  <dc:title>ادوية السبيل المعدي المعوي</dc:title>
</cp:coreProperties>
</file>