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C7B6-5F7C-4C7A-B003-6248428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5B2F-C72E-4264-8780-38779BE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0BD5-5368-4A23-862A-25B5C73C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6994-3703-4485-97C9-3D5F562F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0CC6-4A6B-48F7-8E8D-9EB9850F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613B-F01A-41A0-9E1B-EBC461C2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FD6-C897-4E6E-BDDF-54D97323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825A-5293-4676-820F-F47F702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A76-E641-44CA-AE07-F54C57E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6FF-87E3-4BFB-A2C9-C6AF6A7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48CE-3FFC-4580-B52E-DBE3738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E6B9-04FC-4BA9-8950-878B7C4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04F4-A623-4D7D-98A3-25C62DD0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2172-0056-4EE9-9DEA-8A5D4B5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235-D552-459D-8E1F-9E4E678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1AA-4E98-4C08-8084-D9182FA0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F51-1438-4D85-83E4-E72B841B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FE6D-372C-4C96-9085-D5B9345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DCF4-B350-438C-A422-458B4A50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C14-40C7-473A-8073-2DC05FB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5EA7-CAA6-42BB-84DA-45F74C4B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7850-3796-4E86-825B-89280D02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F99F-94CD-483D-9389-8766FA6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B63F-B9F0-4F30-A703-D1C8A97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528-C3D6-4784-ACA8-33178BCCA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1602-5CFE-4BA2-A376-2905AD3DD9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4800" spc="-1" strike="noStrike">
                <a:solidFill>
                  <a:srgbClr val="dfdef6"/>
                </a:solidFill>
                <a:latin typeface="Arial"/>
              </a:rPr>
              <a:t>ادوية السبيل المعدي المعوي</a:t>
            </a:r>
            <a:br>
              <a:rPr sz="4800"/>
            </a:b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drugs</a:t>
            </a: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GASTROINTESTINAL</a:t>
            </a:r>
            <a:r>
              <a:rPr b="1" i="1" lang="en-GB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Arial"/>
              </a:rPr>
              <a:t>الاستاذ الدكتور عبد الناصر عمرين</a:t>
            </a:r>
            <a:r>
              <a:rPr b="1" lang="ar-SY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كلية  الصيدلة – قسم السموم وعلم تأثير الادو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جامعة دمشق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 u="sng">
                <a:solidFill>
                  <a:srgbClr val="dfdef6"/>
                </a:solidFill>
                <a:uFillTx/>
                <a:latin typeface="Arial"/>
              </a:rPr>
              <a:t>* بيكربونات الصوديوم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الاطراح : يطرح الجزء الممتص في البو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قلاء استقلاب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** 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omeprazole ( Naxiu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eprazole ( Prilosec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soprazole ( Prevacid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prazole ( Protonix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eprazole ( Aciphex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جميع مثبطات مضخة البروتون تنتهي بالمقط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zo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** 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maco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عط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استقلاب كبدي بوساطة ا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4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طراح : تُطرَح المستقلبات في البول و البر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ثبيط إفراز الحمض على نحو متعذَّر العكس ( تتطلب إنزيمات جديدة لإفراز الحمض على نحو طبيعي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جري تفعيلها عندما تُفرَز في البيئة الحمضية للمعد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ُهضَم غطاء القرص في الاثنا عشر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oden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و يُطلق الدواء و يُمتص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fdef6"/>
                </a:solidFill>
                <a:latin typeface="Arial"/>
              </a:rPr>
              <a:t>مثبطات مضخة البروتون </a:t>
            </a:r>
            <a:r>
              <a:rPr b="0" i="1" lang="en-US" sz="3600" spc="-1" strike="noStrike">
                <a:solidFill>
                  <a:srgbClr val="dfdef6"/>
                </a:solidFill>
                <a:latin typeface="Arial"/>
              </a:rPr>
              <a:t>PROTON PUMP INHIBITOR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رض القلس المعدي المريئ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تهاب المري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قرحات المحدثة ب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AID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تلاز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llinger - Ellison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de Effect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سه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rh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غثيا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مسا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صد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دوخ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zz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III</a:t>
            </a: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 - الأدوية الأخرى في معالجة الأمراض المعدية المعوية 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 الأتروبين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tropine ( Sal - Tropin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 الصن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: ضاد للموسكارينية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carivic antagon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و إنشاقا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al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كبدي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يُطرَح الدواء الأصلي و مستقلباته في البول ( تطرح مقادير صغيرة في البراز وفي هواء الزفير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hal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نقص إفراز الحمض الأساسي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الاستخدامات السرير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كعامل مضاد للإفرا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secretory ag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ستخدم مع محصرات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أو في حالات ال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المعاند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ندما تكون ضواد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غير فعال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 التأثيرات الجانبية المضادة للكولينرج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Bismuth Subsalicylate ( Peto Bismol )</a:t>
            </a:r>
            <a:br>
              <a:rPr sz="3200"/>
            </a:b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الصِنْف : مركب بزموت غرواني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olloidal bismuth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يستقلب في السبيل المعدي المعوي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تطرَح مستقلباته في البول و البرا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امل حامي للمخاط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زيد افراز المخاط ، الذي يُكوِّن حاجِزاً تجاه انتشار الحمض إلى القرح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حلّ الملوّيات / المنحنيات البوابية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icobacter py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التأثيرات الجانب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عتلال دماغ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ephalopath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مع الاستخدام طويل الأمد أو فرط الجرعة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do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ميزوبروستول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Misoprostol ( Cytotec )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مضاهي للبروستاغلاندين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E1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تقلاب : يستقلب على نحو كبير في المرور الأول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طراح : يطرح معظم الدواء الأصلي و مستقلباته في البول ؛ الباقي في البرا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عامل حامي للمخاطي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يثبط افراز الحمض المعدي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وقاية من القرحات المحدثة بال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A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ألم البط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سكرالفات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Sucralfate ( Carafate )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الصِنْف :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Aluminum sucrose sulfate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عط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في البراز بدون تبدّ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عامل حامي للمخاط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هلامية متبلمر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izing g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 يتبلمر عند الباهاء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 تلتصق بمكان القرحة و تحميها مما يسمح بالالتئا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أثيراتها الجانبية قليلة بسبب الامتصاص القلي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Ondansetron ( zofran )</a:t>
            </a:r>
            <a:br>
              <a:rPr sz="3600"/>
            </a:b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ضاد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5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 -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HT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تقلاب : كبد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تطرح المستقلبات في ال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حصر مستقبلات السيروتوني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مركزياً و محيط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قد يعمل على انقاص فعل ال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في منطقة استثارة المستقبل الكيميائ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receptor trigger zone ( CTZ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ضاد للقيا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em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تأثيرات الجانب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ه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Prochlorperazine ( Compazine )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dfdef6"/>
                </a:solidFill>
                <a:latin typeface="Arial"/>
              </a:rPr>
              <a:t>- الصنف : فينوثيازين </a:t>
            </a: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phenothiazin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و مستقيميا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آلية التأثير : يحصر مستقبلات الدوبام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في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مضاد للقي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أثيرات خارج هرم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pyramidal side effects EP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مع الجرعات الضخم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ركين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Y" sz="4400" spc="-1" strike="noStrike">
                <a:solidFill>
                  <a:srgbClr val="dfdef6"/>
                </a:solidFill>
                <a:latin typeface="Arial"/>
              </a:rPr>
              <a:t>ادوية السبيل المعدي المعوي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محصرات ا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 BLOCK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ضواد ا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 H2 - Receptor Antagoni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مضادات الحموضة و مثبطات مضخة البروت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ACI‎DS AND PROTON PUMP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الأدوية الأخرى في معالجة أمراض السبيل المعدي المع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MEDICATIONS FOR TREATING GI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مداواة التوليفية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Therap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مقرات عمل بعض الأدوية المستخدمة في معالجة مرض القرحة الهضم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 of Action of Some Drugs Used to Treat P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henodiol ( Chenix )</a:t>
            </a:r>
            <a:br>
              <a:rPr sz="3200"/>
            </a:b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- الصنف : مشتقات الحموض الصفراوية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Bile acid derivativ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تقلاب : كب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طراح : تطرح المستقلبات في البرا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ثبط تكوين الحصيات الصفراو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بوساطة إنقاص إفراز الحموض الصفراوية من الكب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ضاد للحصيات الصفراو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choleli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سها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fdef6"/>
                </a:solidFill>
                <a:latin typeface="Arial"/>
              </a:rPr>
              <a:t>* الـ </a:t>
            </a:r>
            <a:r>
              <a:rPr b="1" i="1" lang="en-US" sz="2400" spc="-1" strike="noStrike">
                <a:solidFill>
                  <a:srgbClr val="dfdef6"/>
                </a:solidFill>
                <a:latin typeface="Arial"/>
              </a:rPr>
              <a:t>Ursodiol ( Actigall )</a:t>
            </a:r>
            <a:br>
              <a:rPr sz="2400"/>
            </a:br>
            <a:r>
              <a:rPr b="1" i="1" lang="en-GB" sz="2400" spc="-1" strike="noStrike">
                <a:solidFill>
                  <a:srgbClr val="dfdef6"/>
                </a:solidFill>
                <a:latin typeface="Arial"/>
              </a:rPr>
              <a:t>- من صنف مشتقات الحموض الصفراوية و له حرائك دوائية مماثلة لسابقه 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ثبط تكوين الحصيات الصفراو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st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بآلية غير معرو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قد يعمل من خلال تثبيط تخليق الكوليستيرول في الكبد و إنقاص امتصاص الكوليستيرول مما يجعل الكوليستيرول ذواباً من الحصيات الصفراوية الموجود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مضاد للحصيات الصفراو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holelit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ألم الظهر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ها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* الميتوكلوبراميد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Metoclopramide ( Reglan )</a:t>
            </a:r>
            <a:br>
              <a:rPr sz="2800"/>
            </a:b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- الصِنف : محصر للدوبامين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DA blocker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إعطاء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نطراح : يطرح الدواء الأصلي و مستقلباته في ال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ينبه حركية المعدة بتثبيط استرخاء العضلات الملساء المعدية المحرِّض بالدوبامي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- induced gastric smooth muscle relax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 مما يسمح بحدوث توت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كولينيرجي غير مُعاكس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كسل المعد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pa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سها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نعا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أثيرات خارج هر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** المداواة ال</a:t>
            </a:r>
            <a:r>
              <a:rPr b="1" i="1" lang="ar-SY" sz="3200" spc="-1" strike="noStrike">
                <a:solidFill>
                  <a:srgbClr val="dfdef6"/>
                </a:solidFill>
                <a:latin typeface="Arial"/>
              </a:rPr>
              <a:t>ت</a:t>
            </a:r>
            <a:r>
              <a:rPr b="1" i="1" lang="en-GB" sz="3200" spc="-1" strike="noStrike">
                <a:solidFill>
                  <a:srgbClr val="dfdef6"/>
                </a:solidFill>
                <a:latin typeface="Arial"/>
              </a:rPr>
              <a:t>وليفية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COMBINATION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THERAPIES</a:t>
            </a:r>
            <a:br>
              <a:rPr sz="2800"/>
            </a:br>
            <a:r>
              <a:rPr b="1" i="1" lang="en-GB" sz="4000" spc="-1" strike="noStrike">
                <a:solidFill>
                  <a:srgbClr val="dfdef6"/>
                </a:solidFill>
                <a:latin typeface="Arial"/>
              </a:rPr>
              <a:t>* ضاد المستقبلة </a:t>
            </a: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H2</a:t>
            </a:r>
            <a:r>
              <a:rPr b="1" i="1" lang="en-GB" sz="4000" spc="-1" strike="noStrike">
                <a:solidFill>
                  <a:srgbClr val="dfdef6"/>
                </a:solidFill>
                <a:latin typeface="Arial"/>
              </a:rPr>
              <a:t> مع المضادات الحيوية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عمالات السري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عالجة القرحات الهض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itidine + amoxicilline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المضاعفات : مهم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* المداواة الثلاثية المعتمدة على البزمو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tec ( bismuth citrate + ranitidine 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مضادين حيويين مث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ythromycin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racycline + metronid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rithromycin + amox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أ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dac ( bismuth subsalicyl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ضاد للمستقب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تتراسيكلين و مترونيداز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المداواة ال</a:t>
            </a:r>
            <a:r>
              <a:rPr b="1" i="1" lang="ar-SY" sz="2800" spc="-1" strike="noStrike">
                <a:solidFill>
                  <a:srgbClr val="dfdef6"/>
                </a:solidFill>
                <a:latin typeface="Arial"/>
              </a:rPr>
              <a:t>ت</a:t>
            </a: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وليفية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COMBINATION THERAPIES</a:t>
            </a:r>
            <a:br>
              <a:rPr sz="2800"/>
            </a:b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* ضاد المستقبلة </a:t>
            </a: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H2</a:t>
            </a:r>
            <a:r>
              <a:rPr b="1" i="1" lang="en-GB" sz="2800" spc="-1" strike="noStrike">
                <a:solidFill>
                  <a:srgbClr val="dfdef6"/>
                </a:solidFill>
                <a:latin typeface="Arial"/>
              </a:rPr>
              <a:t> مع المضادات الحيوية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معالجة القرحات الاثناعشرية أو المعدية بوجود عدوى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pyl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تأثيرات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جانبي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كثيرة الحدوث مثل الاسهال ، و الغثيان و القياء ، وعدم ارتياح البطن و الصداع مما يجعل الامتثال مشكلة من قبل المري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جب إعطاء المعالجة الثلاثية لأن استخدام مضاد حيوي مفرد للقضاء على 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pylor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يؤدي إلى نشوء مقاومة سريعة تجاه الدو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Arial"/>
              </a:rPr>
              <a:t>*** مثبطات مضخة البروتون مع مضادين حيويين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أوميبرازول / لانزوبرازول + مضادين حيوين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كلاريتروميسين + مترونيداز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تتراسيكلين + مترونيداز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كلاريتروميسين + أموكسيسيلين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عالجة القرحات الاثنا عشرية أو المعدية بوجود عدوى 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.pyl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لمثبطات مضخة البروتون تأثيراً كابحاً للنمو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ostat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على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. pylor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الملويات البوابية لا تقاوم الأموكسيسيلين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مضاعفا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قد تؤدي هذه التوليفات إلى اسهال و غثيان و قياء و عدم ارتياح البطن و الصدا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يجب يجب إعطاء المعالجة التوليفية لأن استخدام المعالجة المضادة للافراز وحيدةً لن تقضي على عدوى الملويات / المنحنيات البوابي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ضواد المستقبلة </a:t>
            </a: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* السيميتيدين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metidine ( Tagamet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armacoki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يُعط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, IM , 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بيولوجي فمويا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عمر النص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ساعا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كبد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إزالة الفعل / الاطراح : تُطرح المستقلبات و الدواء الأصلي في الب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آلي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التأثير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يُنقِص افراز الحمض المعدي بتثبيطه التنافسي للمستقبل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 إنها آلية التأثير لجميع ضواد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اللاحق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dfdef6"/>
                </a:solidFill>
                <a:uFillTx/>
                <a:latin typeface="Arial"/>
              </a:rPr>
              <a:t>* السيميتيدين </a:t>
            </a:r>
            <a:r>
              <a:rPr b="1" i="1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Cimetidine ( Tagamet 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استخدامات السريرية / الإكلينيك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nical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يشفي القرحات المعدية و المعوية و يقي من رجوعها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تهاب المري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متلاز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llinger - Ellison syndr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وقاية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hylaxi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من القرحات الاثنا عشر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oden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مُحدَثَة ب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SA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للوقاية من القرحات المُحدثة بالكرب / الشدة النفس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s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 هذه الاستخدامات لجميع ضواد المستقبل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لاحق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de Effects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dyscra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تخليط مركز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con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حديث غير واض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urred spee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و تخليط عند المسنين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تثدي عند الذكور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ynecomasti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بالاستخدام طويل الأمد بسبب فعله المضاد للأندروجين ( يحصر إنتاج و إطلاق التستوستيرون ؛ يمكن استخدمه لراغبي تغيير الجن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sexua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حيث يُطَوِّر الثدي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يثبط مجموعة السيتوكرو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45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، مؤدياً إلى التآثرات الدوائ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 u="sng">
                <a:solidFill>
                  <a:srgbClr val="dfdef6"/>
                </a:solidFill>
                <a:uFillTx/>
                <a:latin typeface="Arial"/>
              </a:rPr>
              <a:t>الفاموتيدين </a:t>
            </a: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Famotidine ( Pepcid</a:t>
            </a: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 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إعطاء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توافره البيولوجي الفمو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h =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ستقلاب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يستقلب مقدار صغير منه في الكبد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زالة المفعول 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" : يُزال / يُطرَح معظمه في الب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تأثيرات الجانبية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شذوذات كبد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patic abnormaliti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 التهاب كبد مع الغاموتيدين ، شذوذات في اختبارات وظائف الكبد مع النيزاتيدين و التهاب كبد قابل للعكس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ib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مع الرانيتيدين 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صدا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دوخ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zz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سهال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إن هذه التأثيرات الجانبية تنطبق على ضواد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اللاحقة أيضاً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dfdef6"/>
                </a:solidFill>
                <a:latin typeface="Arial"/>
              </a:rPr>
              <a:t>النيزاتيدين </a:t>
            </a: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Nizatidine ( Axid 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بيولوجي الفمو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5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استقلاب كبد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½ = 1.1 - 1.6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في البول ( مقدار صغير في البراز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الرانيتيدين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itidine ( Zantac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الحرائك الدوائ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التوافر الفموي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- 2.4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ستقلاب : يستقلب على نحو شديد في العبور ألأ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زالة / الإطراح : في البول و البر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II</a:t>
            </a: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 - مضادات الحموضة و مثبطات مضخة البروتون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* هيدروكسيد الألمن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الحرائك الدوائ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؛ لا يمتص على نحو ها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الإطراح : في البراز ؛ يطرح القسم الممتص في البول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- آلية التأثير ( لجميع مضادات الحموضة اللاحقة أيضاً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عد مضادات الحموضة أسساً ضعيفة تتفاعل مع حمض المعدة لإنتاج الملح و الماء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زيد الباها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المعد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تزال فعالية الببسي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s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عندما تكون الباهاء المعدية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&lt;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مضادات الحموضة 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Antacids</a:t>
            </a:r>
            <a:br>
              <a:rPr sz="4000"/>
            </a:br>
            <a:r>
              <a:rPr b="0" i="1" lang="en-GB" sz="4000" spc="-1" strike="noStrike">
                <a:solidFill>
                  <a:srgbClr val="dfdef6"/>
                </a:solidFill>
                <a:latin typeface="Arial"/>
              </a:rPr>
              <a:t>* هيدروكسيد الألمنيوم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استخدامات السريرية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لجميع مضادات الحموضة المذكورة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تفريج أعراض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relie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لمرض القرحة الهض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 مرض القلس المعدي المريئ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 esophageal reflux disese GE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و التهاب المريء و فرط الحموضة المع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أمونة الاستخدام أثناء الحم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مفضلة لشفاء القرحات الاثناعشرية مقارنة مع القرحات المع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الامسا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نقص بوتاسيوم الد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kalem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dfdef6"/>
                </a:solidFill>
                <a:latin typeface="Arial"/>
              </a:rPr>
              <a:t>* كربونات الكالسيوم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الحرائك الدوائية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عطاء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يمت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فرط كالسيوم الدم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cal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قلاء استقلاب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 alkal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نقص بوتاسيوم الد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* هيدروكسيد المغنزيوم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حرائك الدوائ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عطاء 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؛ لا يمتص على نحو ها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الاطراح : يطرح الجزء الممتص في البو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 التأثيرات الجانبي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ذو تأثير مسهل قو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lax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4:08:48Z</dcterms:created>
  <dc:creator>DR RASHAD</dc:creator>
  <dc:description/>
  <dc:language>en-US</dc:language>
  <cp:lastModifiedBy>tar</cp:lastModifiedBy>
  <dcterms:modified xsi:type="dcterms:W3CDTF">2007-03-25T16:51:33Z</dcterms:modified>
  <cp:revision>8</cp:revision>
  <dc:subject/>
  <dc:title>ادوية السبيل المعدي المعوي</dc:title>
</cp:coreProperties>
</file>