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E57-D317-4F77-AC8A-FC292D93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797-88AB-478C-828E-8A09BB10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B83-60D1-4C9B-83F4-40865927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1B8-90A1-44D5-978C-3B116324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508-ECBB-4653-B780-03C944F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623-65E6-40B5-9424-803F0F12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192-CC59-4D7B-A7DF-3508AD8F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2FA-3009-4AB2-8EFE-6BBFD6A0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AC2-25A1-4DEB-8792-939D8D2F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F60-E475-47A1-93E1-AD0C5A9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B3A-FF14-4546-99FA-EB017EC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B44-A17D-49A4-80A8-9615939C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8C8B-D852-4D46-8E72-F7DC006BC5D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2:17:47Z</dcterms:modified>
  <cp:revision>25</cp:revision>
  <dc:subject/>
  <dc:title>슬라이드 1</dc:title>
</cp:coreProperties>
</file>