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DA9-C312-4C3C-8092-93E2C414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A72-EAFF-4646-9B18-17BA5F1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0A8-CC52-42C5-9174-C20D6E8D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2E9-A62B-4707-8978-9EC7334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420-78DA-4EFC-8DEF-42D60B2B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AEC-CD93-4A46-BCC1-D17699E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629-A53C-46D3-82F8-AD67B061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A8F-F97C-4CA5-8096-2908038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DB7-0936-42E2-9CD9-A35AF454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C09-E3FC-49A7-88F5-271FC80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314-0B4B-4EC1-B902-ACB7548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18F-4065-4558-93E4-9D9C9AC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D7AA-14B2-4E78-B61F-2C6C0609F9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17:47Z</dcterms:modified>
  <cp:revision>25</cp:revision>
  <dc:subject/>
  <dc:title>슬라이드 1</dc:title>
</cp:coreProperties>
</file>