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8F6-DE42-423D-A5A0-73F8DC4D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1FA-C1AC-416F-9619-EBEAD10D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A32-B227-4B3B-9CE5-A81DB838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AC5-582B-4485-8F0F-0E9A7E5E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57B8-BB4F-4493-AB84-BF349901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A28A-4612-4192-A786-CD66D0C1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4F1D-04BD-432F-AAE3-F26A8AD3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3B4D-B8DC-4928-BBDB-6F305F29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EA0E-0F4A-4B4A-B05D-CC7007FE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1669-4B72-44BE-B7B0-EF2EEBC0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0D98-E2BE-4966-9855-2310CF5E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25B-6FF5-47FD-BF9D-30D15930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10E0-A525-4617-9C0D-874E5688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4C97-88CD-43B4-99CB-85D0BFC7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7711-1902-4B8C-B6DA-A08615E8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79A6-813C-4A0A-9220-6A5F76A4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8FED-1814-4483-95C9-74671C2A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D6B-12ED-4771-AEE1-79711AA3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F186-44E7-4EBD-8718-6C316837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9EC-1D44-41FE-A219-C61EB26B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2BF-D3A8-4A9A-B9CD-1C729CD0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9CF-AA85-4E56-8693-0112C0EC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E36-DF56-48EB-A347-994E6866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B66-EAD4-4019-8ACD-2516167A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3322-1839-4C13-BF2F-1B43A614683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1573-5848-4FE3-9794-D02440DD2D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762120" y="990720"/>
            <a:ext cx="4343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.O.P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52280"/>
            <a:ext cx="85341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raining Orientasi Persada</a:t>
            </a: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3068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3213000"/>
            <a:ext cx="4319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1e0a"/>
                </a:solidFill>
                <a:latin typeface="Arial"/>
              </a:rPr>
              <a:t>Kajian Syariah DR.Sal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1e0a"/>
                </a:solidFill>
                <a:latin typeface="Arial"/>
              </a:rPr>
              <a:t>BISNIS SYAR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-1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snis dunia/akhira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lah: Manusia jadi budak dunia, seharusnya dunia budak manu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a pinjam uang (Asuransi pembiayaan): meninggal dan dianggap luna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lil bisnis syaria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-2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78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um Dewan Syari’ah?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lum ada forum dewan Syari’ah, Persada akan mengundang Dewan Syariah pihak lain untuk menjalin komunika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ika ada fatwa, tembus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wan Pengawas Syariah hanya digunakan Dewan Syariah Nasional MUI. Pusat konsultasi syariah adalah konsultan syari’ah Persada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ang terpenting ada pakar syariah yang mengawasi. Sertifikasi perlu waktu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SN mengetahui konsultant syari’ah dari masing-masing piha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tal anggota DSN = 60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ika semua bisnis harus dapat legalitas DSN maka tidak mungkin bisnis bisa jala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ika ada yang memberikan komentar tertulis, konsultant syari’ah Persada (Pusat Konsultasi Syariah) akan memberikan jawaba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-3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mitment: Rek bank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oritas BNI Syari’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sahkan jaringan ikhwan dan akhwat untuk memperkecil ikhtilat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leh, yang tidak boleh berkholw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ngan closing berdua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wa dong suami/istrinya atau mahromny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sepaka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ika bertentangan dengan Qur’an dan Sunnah Haram hukumnya. Jd semua kesepakatan harus sejalan dengan Qur’an dan Sunna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-4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90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mber berhenti karena buku: Halal Haram Fil Islam, Yusuf Qordhow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hasan: kritikan asuransi jiwa konvension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ada Mandiri: Akad, Tabarru’ dan bagi hasil. Rp.1.170.000 – Rp.420.000 (biaya pengelolaan) sisanya investasi. Tabungan dipotong tabarru’ Rp.66.000 per tah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-5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90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kad MLM Ganda???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ngan buat akad yang bertentangan dengan Qur’an dan Sunn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ngan membatasi pintu rezeki seseorang karena distributor bukanlah karyawan yang memenuhi ketentuan/syarat sebagai karyaw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MLM ganda diperboleh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-6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90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akat PERSAD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,5% jika telah Nisa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yaluran disesuaikan kebutu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tal Zakat, Infak Shodaqoh Rp.40 jutaan siap untuk disalurkan oleh Pers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-7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gaimana menawarkan barang Cash/kredit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awarkan dengan cash atau kredit boleh, yang tidak boleh membeli tanpa pilih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jual dengan PV dan non P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-8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ika ingin berhenti ditengah ja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lai tunai bisa diambil ditahun keti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kad: 3 bulan berurutan tidak mencicil tabungan, maka asuransi batal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lai tunai dikembalikan. Biaya pengelolaan (Rp.420.000) &amp; Tabarru’ (Rp.66.000) tidak diperhitungkan sebagai nilai tun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GHRiB = Maisir, Ghoror, Haram, Riba, Bat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-9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stasi di BRInginLife Syariah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nginLife Syariah sudah memiliki Dewan Pengawas Syariah dari DSN-M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stasi harus di Bank-bank Syari’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ika melanggar syari’ah maka izin syari’ah akan dicab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-10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gabung karena ada DR.Salim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akah apa yang kita lakukan sudah sesuai dengan sunnah Rasulullah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wakkal dan berusahal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katlah untamu dan bertawakall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jalan? Was-w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ti-hati penting, tapi jangan was-w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rta ditangan saja jangan dihati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hatikan niat. Prioritaskan ibad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amalah &amp; Muasyar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alan Hati &amp; Zhohi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r’an: Pengusaha yang jujur bersama: para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223960" y="44280"/>
            <a:ext cx="3956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AKAD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42560" y="1413000"/>
            <a:ext cx="691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64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Syarat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536400" indent="-5364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roduk jelas halal/hara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400" indent="-5364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idak mengandung Ri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400" indent="-5364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idak ada penipu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400" indent="-5364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da tidak ketentuan yg zholim atau yang tidak melakukan apapun dapat keuntungan bes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5300640"/>
            <a:ext cx="504036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aidah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amalah: segalanya boleh kecuali yang dilar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NYA JAWAB 11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asi Persada di Masjid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jid tidak boleh untuk transaksi bis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carakan Persada di luar Masj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snis Persada Syubhat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konsultan syariah siap menjaw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nggahan tentang bis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651280" y="27756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PRODU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rang re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a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sultan: 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esehatan: Asuran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908000" y="5877000"/>
            <a:ext cx="71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sep Islam: Dalam ibadah tidak boleh terima gaji kecuali dalam kondisi terten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NVESTASI/SIMPAN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stem syariah menghendaki simpanan dana bisnis melalui BANK Syari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Ketentuan-ketentua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disi yang ada di masyarakat merupakan syar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ua system mengarah pada keadi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AMA’A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kukanlah segalanya secara kolekti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unika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gs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at pada pimpin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haya keluar dari jama’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apun berjama’ah berk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rkahnya uang apabila dirasakan banyak ora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UANG &amp; BISNIS dalam Islam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-Hasyr 9: Janganlah uang hanya berputar di kalangan orang kaya ibarat a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snis: Shofa-Marwa: Bergerak, suci &amp; pu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ang bukan tu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ndangan syar’I: Inovasilah dan yang salah betulk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tanya siap untuk dibagik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NEY GAM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k adalah j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us diperoleh karena beker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us closing wajar karena dibayar Rp.50.000 atau Rp.100.000 /5 tah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ang terpenting produk bukan kamufl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us diambil dari anggaran efisiensi. Kolektif berdampak komisi bes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’s Qur’an ‘n Sunnah sa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istimewaan referensi Islam: Qur’an dan Sunnah terbatas tapi dapat menyelesaikan masalah yang tidak terba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galanya dalam hal muamalah diperbolehkan kecuali yang dilara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 pada apa laranganny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6:27:17Z</dcterms:created>
  <dc:creator>Admin</dc:creator>
  <dc:description/>
  <dc:language>en-US</dc:language>
  <cp:lastModifiedBy>Admin</cp:lastModifiedBy>
  <dcterms:modified xsi:type="dcterms:W3CDTF">2004-10-09T08:50:48Z</dcterms:modified>
  <cp:revision>62</cp:revision>
  <dc:subject/>
  <dc:title>Slide 1</dc:title>
</cp:coreProperties>
</file>