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18F-BA6D-4C8F-8726-4CB5867A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441-C716-4578-8114-2D8CD8C7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0BF-680A-4CCA-A38F-7DBAC322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3FC-F658-4119-9285-15E8C585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3878-D0BF-42CC-A997-D7E408FD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4B03-200D-4219-94B6-DAD5C440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DE73-BED6-4495-BE14-7AA0A1B6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FCE7-6B4F-4E85-97F3-CC9CD309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742F-E9E1-43FC-98B0-5F6BAAEF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EBD6-46A2-4A78-B995-20615739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8D10-C9EB-4306-B6CE-E08976BF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D74-AA21-414F-98FF-48571DCF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C98C-AA4F-4CF7-9ED9-D30D67B3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FD9B-47DF-4A3C-8373-5F6B86E9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898-B90F-4A9D-B5DC-28CEA5A8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D334-60EE-4F68-B918-DBE4C944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82E4-197A-4675-977D-C4B657EA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73C-277A-4FA5-99D9-D739C77E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674-5E54-4690-B54F-A716EAE4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D2A-94F3-4A22-A671-4374B014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B20-58F6-40E8-97E0-EF936B14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4D3-A14F-444F-A82F-58A7446C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2CD-1310-4F79-A044-A2D57EA6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7E8-65ED-4A92-9E2E-F3E86E2C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99BC-C7FB-4324-94A7-E502B7429B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144E-D069-4674-BCD7-4EC7ABC529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62120" y="990720"/>
            <a:ext cx="4343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.O.P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52280"/>
            <a:ext cx="8534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ining Orientasi Persada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068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3213000"/>
            <a:ext cx="4319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1e0a"/>
                </a:solidFill>
                <a:latin typeface="Arial"/>
              </a:rPr>
              <a:t>Kajian Syariah DR.Sal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1e0a"/>
                </a:solidFill>
                <a:latin typeface="Arial"/>
              </a:rPr>
              <a:t>BISNIS SYAR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snis dunia/akhir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ah: Manusia jadi budak dunia, seharusnya dunia budak manu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a pinjam uang (Asuransi pembiayaan): meninggal dan dianggap lun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il bisnis syari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78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um Dewan Syari’ah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um ada forum dewan Syari’ah, Persada akan mengundang Dewan Syariah pihak lain untuk menjalin komunik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ika ada fatwa, tembus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wan Pengawas Syariah hanya digunakan Dewan Syariah Nasional MUI. Pusat konsultasi syariah adalah konsultan syari’ah Persada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ang terpenting ada pakar syariah yang mengawasi. Sertifikasi perlu waktu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SN mengetahui konsultant syari’ah dari masing-masing piha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anggota DSN = 60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ika semua bisnis harus dapat legalitas DSN maka tidak mungkin bisnis bisa jala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ika ada yang memberikan komentar tertulis, konsultant syari’ah Persada (Pusat Konsultasi Syariah) akan memberikan jawab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3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mitment: Rek bank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oritas BNI Syari’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sahkan jaringan ikhwan dan akhwat untuk memperkecil ikhtilat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leh, yang tidak boleh berkholw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gan closing berdua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wa dong suami/istrinya atau mahromn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sepak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ika bertentangan dengan Qur’an dan Sunnah Haram hukumnya. Jd semua kesepakatan harus sejalan dengan Qur’an dan Sunna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4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mber berhenti karena buku: Halal Haram Fil Islam, Yusuf Qordhow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hasan: kritikan asuransi jiwa konvens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ada Mandiri: Akad, Tabarru’ dan bagi hasil. Rp.1.170.000 – Rp.420.000 (biaya pengelolaan) sisanya investasi. Tabungan dipotong tabarru’ Rp.66.000 per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5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ad MLM Ganda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gan buat akad yang bertentangan dengan Qur’an dan Sunn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gan membatasi pintu rezeki seseorang karena distributor bukanlah karyawan yang memenuhi ketentuan/syarat sebagai karyaw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MLM ganda diperboleh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6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kat PERSA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,5% jika telah Nis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aluran disesuaikan kebut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Zakat, Infak Shodaqoh Rp.40 jutaan siap untuk disalurkan oleh Pers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7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gaimana menawarkan barang Cash/kredit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awarkan dengan cash atau kredit boleh, yang tidak boleh membeli tanpa pilih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jual dengan PV dan non P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8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ka ingin berhenti ditengah ja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lai tunai bisa diambil ditahun keti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ad: 3 bulan berurutan tidak mencicil tabungan, maka asuransi batal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lai tunai dikembalikan. Biaya pengelolaan (Rp.420.000) &amp; Tabarru’ (Rp.66.000) tidak diperhitungkan sebagai nilai tun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GHRiB = Maisir, Ghoror, Haram, Riba, Bat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9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stasi di BRInginLife Syariah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nginLife Syariah sudah memiliki Dewan Pengawas Syariah dari DSN-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stasi harus di Bank-bank Syari’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ka melanggar syari’ah maka izin syari’ah akan dicab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10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karena ada DR.Salim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kah apa yang kita lakukan sudah sesuai dengan sunnah Rasululla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wakkal dan berusahal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katlah untamu dan bertawakall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jalan? Was-w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ti-hati penting, tapi jangan was-w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rta ditangan saja jangan dihat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hatikan niat. Prioritaskan ibad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amalah &amp; Muasy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alan Hati &amp; Zhoh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r’an: Pengusaha yang jujur bersama: para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223960" y="44280"/>
            <a:ext cx="3956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AKAD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42560" y="1413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6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yarat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36400" indent="-5364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duk jelas halal/hara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5364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idak mengandung Ri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5364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idak ada penipu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5364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da tidak ketentuan yg zholim atau yang tidak melakukan apapun dapat keuntungan be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300640"/>
            <a:ext cx="50403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ida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amalah: segalanya boleh kecuali yang dila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 1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si Persada di Masjid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jid tidak boleh untuk transaksi 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carakan Persada di luar Masj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snis Persada Syubha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konsultan syariah siap menjaw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ggahan tentang 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651280" y="27756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PRODU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rang re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sultan: 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sehatan: Asuran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5877000"/>
            <a:ext cx="71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ep Islam: Dalam ibadah tidak boleh terima gaji kecuali dalam kondisi tert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VESTASI/SIMPAN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stem syariah menghendaki simpanan dana bisnis melalui BANK Syari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Ketentuan-ketentua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isi yang ada di masyarakat merupakan syar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ua system mengarah pada keadi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AMA’A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kukanlah segalanya secara kolekt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g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at pada pimpin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haya keluar dari jama’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apun berjama’ah berk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kahnya uang apabila dirasakan banyak ora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UANG &amp; BISNIS dalam Islam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-Hasyr 9: Janganlah uang hanya berputar di kalangan orang kaya ibarat a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snis: Shofa-Marwa: Bergerak, suci &amp; pu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ang bukan tu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dangan syar’I: Inovasilah dan yang salah betulk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tanya siap untuk dibagik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NEY GA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k adalah j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us diperoleh karena beker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us closing wajar karena dibayar Rp.50.000 atau Rp.100.000 /5 tah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ang terpenting produk bukan kamufl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us diambil dari anggaran efisiensi. Kolektif berdampak komisi bes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’s Qur’an ‘n Sunnah sa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istimewaan referensi Islam: Qur’an dan Sunnah terbatas tapi dapat menyelesaikan masalah yang tidak terba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alanya dalam hal muamalah diperbolehkan kecuali yang dilara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 pada apa laranganny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6:27:17Z</dcterms:created>
  <dc:creator>Admin</dc:creator>
  <dc:description/>
  <dc:language>en-US</dc:language>
  <cp:lastModifiedBy>Admin</cp:lastModifiedBy>
  <dcterms:modified xsi:type="dcterms:W3CDTF">2004-10-09T08:50:48Z</dcterms:modified>
  <cp:revision>62</cp:revision>
  <dc:subject/>
  <dc:title>Slide 1</dc:title>
</cp:coreProperties>
</file>