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E27-8B2A-442E-AC28-AE701C34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170-9C2A-4761-A959-74A5604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C4D-D1C8-4768-A8D4-68414C98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8E4-1384-4B7F-8ABD-98963A37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467-E41D-4A6A-8411-2AD14BEB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929-FFCE-4100-A61D-3BE2C10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EA9-D133-4DDA-96FD-181A64D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C73-3ED4-4D15-A471-1004878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C0B-1B65-42C4-A0F3-58FC2A5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B06-67F8-4C86-9AF4-5AFAC02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228-C171-4396-BFF5-A4AFE0D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526-1364-46FE-BBDE-3252624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EA60-ECB1-4688-B81F-56310FDA7C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3:20:35Z</dcterms:modified>
  <cp:revision>24</cp:revision>
  <dc:subject/>
  <dc:title>슬라이드 1</dc:title>
</cp:coreProperties>
</file>