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895-F315-4ABD-BEB5-FC55B807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43D-B98B-471D-B0CA-3E153D2D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9AE-4E44-416B-AB2F-A25B0C8C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2C4-1060-4E98-A8C2-BBEC1B0D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176-8758-4F94-8649-C416098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3FC-92EF-4169-98C1-04A71B8D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229-8666-40E5-AB3D-AD2B18FE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583-5B5A-4189-9F93-55BC6D36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DB9-903D-44B0-AC51-EFB6CA76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B00-D5A6-4C6F-B8F8-96EE3A6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03D-F951-429E-B175-E81F6A2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57B-94D6-4080-B332-0D61E48E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030B-0D72-4D93-93B8-0DD35FBB71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3:20:35Z</dcterms:modified>
  <cp:revision>24</cp:revision>
  <dc:subject/>
  <dc:title>슬라이드 1</dc:title>
</cp:coreProperties>
</file>