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83B-DBC5-49D7-AD94-62A56F21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5EB-4183-45B0-B7D2-3DF0EE03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BA4-798A-4439-86E9-B2957500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3E2-C418-42A0-A8EB-BFA0B503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E76-CAA2-468F-A7E8-51EBEF6A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4F3-9FE6-4046-8FF1-DB92964F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B6E-9437-44CB-8831-2296E86A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C7D-3D50-4451-B0C8-8FDD6F60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9B7-50A6-44E2-84B6-73A36FFB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780-0C15-4B22-9FC4-7C529F46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102-E60F-4956-9908-47A66B68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EA0-BE6D-4643-9CAF-37706390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AEC5B-0327-40E6-8D90-0979FF1F6B7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37457-62D9-4FF0-A6B2-25F53F5EB90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55:53Z</dcterms:created>
  <dc:creator>최봉수</dc:creator>
  <dc:description/>
  <dc:language>en-US</dc:language>
  <cp:lastModifiedBy>맛있다 군만두</cp:lastModifiedBy>
  <dcterms:modified xsi:type="dcterms:W3CDTF">2024-09-24T08:02:26Z</dcterms:modified>
  <cp:revision>3</cp:revision>
  <dc:subject/>
  <dc:title>슬라이드 1</dc:title>
</cp:coreProperties>
</file>