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46B-AFE3-4CE0-84D5-F717BB46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593-8388-4FB2-A433-0CFD2674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948-8F38-4F20-84C0-AD046CD0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C02-E49C-4F49-BD8A-C4445FCC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18B-6768-47B2-BC4A-64D08901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904-7179-4FAA-A264-1D715581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D60-E43A-4115-B5AB-165F4CC6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5C8-A46A-4917-8B8B-EA9FFA10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E3A-6AA9-4240-916E-08FE078D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79A-922E-4472-9FF7-67A5058B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FA2-FD82-4E3B-982A-EC720AA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5D9-4899-4468-BDED-C52CEA7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435BC-56EA-45ED-9405-F7D9AC432F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1DEAC-9024-4D7F-9242-67B4B21E0D2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55:53Z</dcterms:created>
  <dc:creator>최봉수</dc:creator>
  <dc:description/>
  <dc:language>en-US</dc:language>
  <cp:lastModifiedBy>맛있다 군만두</cp:lastModifiedBy>
  <dcterms:modified xsi:type="dcterms:W3CDTF">2024-09-24T08:02:26Z</dcterms:modified>
  <cp:revision>3</cp:revision>
  <dc:subject/>
  <dc:title>슬라이드 1</dc:title>
</cp:coreProperties>
</file>