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9360"/>
            <a:ext cx="9132840" cy="6839280"/>
            <a:chOff x="0" y="9360"/>
            <a:chExt cx="9132840" cy="683928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9360"/>
              <a:ext cx="8404200" cy="6839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</a:path>
                <a:path stroke="0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  <a:lnTo>
                    <a:pt x="0" y="21600"/>
                  </a:lnTo>
                  <a:lnTo>
                    <a:pt x="19" y="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The Rational Use of 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Antibiotics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 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Medic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ala Lumpur, Malay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mportance of knowing local antibiotic resistance data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esistance patte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ountry to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ospital to hospital in the same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unit to unit in the same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prete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gen or coloniser/conta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 the specimen properly collect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reports are at best a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diagnosis</a:t>
            </a:r>
            <a:br>
              <a:rPr sz="4400"/>
            </a:b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Patient fac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ological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tic factors – G6PD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e and severity of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Antibiotic fac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macokinetic/pharmacodynamic (PK/PD) prof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issue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ity and other advers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ug-drug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Choice of regime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al vs parent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serious infections start with parenteral route (i/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itch to an oral agent as soon as practi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vantages of oral treatme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isks of complications associated with intravascular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ter associated blood stream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oplhleb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che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hospital st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st of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Duration of treatme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most instances the optimum duration is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varies from a single dose to many months depending on th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 higher doses for shorter d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Recommended minimum durations of treatment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685800" y="1981080"/>
          <a:ext cx="779796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9796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Assess efficacy of treatme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review of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outine early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ing or decreasing the level of treatment depending on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hange 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hange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hange spectrum of antibacteri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topping antibio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iotic resistance is a major problem world-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ance is inevitable with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new classes of antibiotic introduced over the last 3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action today, no drugs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Antibiot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most commonly used group of dru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so one of the most commonl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bus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group of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Reasons for appropriate u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hieve desired clinical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imise adverse effects on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in cost of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oid emergence of antibiotic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ntibiotic Resistan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jor clinical challenge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new antibiotics discovered last 3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Bugs No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Health Day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ckling Antibiotic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ction today ! No drugs tomorrow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Rational U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nly when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he most appropriate antibio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he right dose, frequency, route and d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 effectiveness of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Rememb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iotics can only treat bacterial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ll fevers are due to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ll infections are due to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ne of the most common causes of inappropriate use is giving antibiotics with upper respiratory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ll bacterial infections require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other option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se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Choosing an antibiot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likely etiological agen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it likely to be sentisitive to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atient factors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ntibiotic factors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The aetiological age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linical ac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3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st likely site/source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3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st likely path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ikely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3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3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0T06:34:34Z</dcterms:created>
  <dc:creator>Acer</dc:creator>
  <dc:description/>
  <dc:language>en-US</dc:language>
  <cp:lastModifiedBy>USER</cp:lastModifiedBy>
  <dcterms:modified xsi:type="dcterms:W3CDTF">2011-05-26T23:59:52Z</dcterms:modified>
  <cp:revision>51</cp:revision>
  <dc:subject/>
  <dc:title>The Rational Use of Antibiotics</dc:title>
</cp:coreProperties>
</file>