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7BA-F150-4ACA-9AF9-D3DC6613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17A-F502-47BD-AE73-5051E1C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7EA-C9A1-49F9-A5C6-A46844CD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6C6-3B25-4F40-96D7-A14F2FF4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50A-4F23-45A0-B204-3B8E57A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F50-87C2-4365-81BA-DADE46C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409-7359-4C16-A88D-924D6841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F40-0145-4C2C-874D-465EF7CE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A95-3A94-4CCF-B92B-840C9F1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6BB-8751-4177-B9E2-1BE8FBD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27B-3E40-42B5-9BFF-17B01D7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7C7-AABF-42F1-8F5F-19A177E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3C23-1C4E-4E3F-9540-47E7D304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87400" y="0"/>
            <a:ext cx="5565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798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9224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276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97080" y="0"/>
            <a:ext cx="654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5:25:29Z</dcterms:created>
  <dc:creator>MAITHAM</dc:creator>
  <dc:description/>
  <dc:language>en-US</dc:language>
  <cp:lastModifiedBy>MAITHAM</cp:lastModifiedBy>
  <dcterms:modified xsi:type="dcterms:W3CDTF">2004-08-14T05:38:51Z</dcterms:modified>
  <cp:revision>10</cp:revision>
  <dc:subject/>
  <dc:title>الشريحة 1</dc:title>
</cp:coreProperties>
</file>