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809-52D7-4C83-A2F3-7DD57A8E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1E7-B805-4BDF-A788-CEDD0B8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114-5F90-4AD8-A8C2-E64133E8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3EB-2C1C-47C2-9DF4-9E2D73D4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BF2-A8F4-488F-883A-3019911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96B-4B9A-4C3D-AE2A-4FE5E63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510-B01F-4431-A205-170AEA7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A7E-ADC6-45B9-8D29-CB6753C1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AFB-ABAF-45A0-9757-305104E7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C92-0A0D-43B4-A316-6F2B8E7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3B7-B641-44E2-A8CE-2B0B6C2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5A7-D531-4A9E-A24D-BDFAD49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1F2-27B5-4A42-BA44-88CEF993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87400" y="0"/>
            <a:ext cx="5565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7980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9224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276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97080" y="0"/>
            <a:ext cx="654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5:25:29Z</dcterms:created>
  <dc:creator>MAITHAM</dc:creator>
  <dc:description/>
  <dc:language>en-US</dc:language>
  <cp:lastModifiedBy>MAITHAM</cp:lastModifiedBy>
  <dcterms:modified xsi:type="dcterms:W3CDTF">2004-08-14T05:38:51Z</dcterms:modified>
  <cp:revision>10</cp:revision>
  <dc:subject/>
  <dc:title>الشريحة 1</dc:title>
</cp:coreProperties>
</file>