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408-BAF0-4814-96D3-5D7253F2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DA9-011A-4D16-BB95-9754EBE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043-C6CF-4A59-9723-76ABC508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B79-B240-4570-B0FE-1BE084D9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D40-3002-4B24-948E-BA1D6FA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F6C-127F-4A78-A4BC-FC2E963A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83F-107E-47C0-AAE1-75EB1C70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156-3324-427C-AA00-D0A3C02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FF3-ABD2-4837-A7F2-ABFE01C0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354-3239-47BD-8DC4-8797D3F6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05E-5A3C-4E12-B668-0C75D7A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F29-8CA2-4F00-848B-A525BAE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40786-CB50-4B08-A27A-0CC207090C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F25D-8EB4-4B71-86F4-0D514E8D56B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5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8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1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4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5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17:37:17Z</dcterms:created>
  <dc:creator>최봉수</dc:creator>
  <dc:description/>
  <dc:language>en-US</dc:language>
  <cp:lastModifiedBy>맛있다 군만두</cp:lastModifiedBy>
  <dcterms:modified xsi:type="dcterms:W3CDTF">2024-10-01T02:57:51Z</dcterms:modified>
  <cp:revision>3</cp:revision>
  <dc:subject/>
  <dc:title>슬라이드 1</dc:title>
</cp:coreProperties>
</file>