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9C7-C8E5-4521-B14E-B0927A41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1E5-065B-44E5-AB5C-08BEC84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99B-5655-4EE3-9399-2E6AF656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5F2-6A0E-451A-8C9B-AA9AE44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FBC-D7EA-4E29-AD64-CA6C07D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97F-56D1-4D52-B2E5-76DA309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AD9-7931-465B-94BA-244DBED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DA0-68B0-454B-8B6B-551C69C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098-52BB-4ACA-B764-A6B1F2E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A21-F753-451B-96B4-2C249F2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B0E-7A23-482D-A266-DFBE7AF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C92-799F-4F32-8FD5-D38C6F8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8DF45-A2E1-40F7-AE0B-105C15DE25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FD4E1-F84B-43AC-B134-80028F9CC74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17:37:17Z</dcterms:created>
  <dc:creator>최봉수</dc:creator>
  <dc:description/>
  <dc:language>en-US</dc:language>
  <cp:lastModifiedBy>맛있다 군만두</cp:lastModifiedBy>
  <dcterms:modified xsi:type="dcterms:W3CDTF">2024-10-01T02:57:51Z</dcterms:modified>
  <cp:revision>3</cp:revision>
  <dc:subject/>
  <dc:title>슬라이드 1</dc:title>
</cp:coreProperties>
</file>