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080-8724-42E2-806B-EBDF029B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6C4-CDA7-4B1C-B433-2BE3C17F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16A-C7F7-4EF5-829A-0461D10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A36-1C25-4606-A4ED-8C9D6140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796-163A-4FE7-BF63-C4290BF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541-072A-421C-839A-CB474B5D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CA1-D643-48FD-9665-A671B6B8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630-9580-43DF-8875-623311F7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07A-43B9-4518-9BED-689227F0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2F7-F2D0-4084-A98E-CD3FBB6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B13-DBF4-4A2B-BB5D-A79F807E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5B4-A784-4AC6-ACD7-F9F7131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F19-C467-4DCD-BB1C-1289F863C87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Seo, Jiwon</cp:lastModifiedBy>
  <dcterms:modified xsi:type="dcterms:W3CDTF">2020-12-31T02:20:09Z</dcterms:modified>
  <cp:revision>25</cp:revision>
  <dc:subject/>
  <dc:title>슬라이드 1</dc:title>
</cp:coreProperties>
</file>