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93D-221C-47F7-8D40-541F97C5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6B-C68E-4214-8D7A-61D0E05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4E9-4FEA-4A65-BD05-286A4603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F5D-B08C-425A-805A-F3C1B110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7BB-1D93-42D7-8CC7-8B8A444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0F5-1116-40B5-A02B-B3DA35E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90B-D910-4599-B2B7-357FC283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38D-B55F-4A70-A5B0-358DBFB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A73-6289-49C7-9A1C-BA0E2C6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CFD-B33A-4E99-9826-5909AFE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C41-7086-416E-B075-04A2F86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39F-AD0C-403D-922A-E08E1C3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5F04-B837-4E8F-9924-F078E0A033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20:09Z</dcterms:modified>
  <cp:revision>25</cp:revision>
  <dc:subject/>
  <dc:title>슬라이드 1</dc:title>
</cp:coreProperties>
</file>