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F7A-92F8-44CD-A177-DA3E1DCD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1BA4-FB4D-4F84-8E5C-97C1A2E6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D32E-4532-4862-95BB-D4957A67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C30E-CC6A-4D89-803D-AAC16427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A70A-4941-44BF-AE3A-A0BF694A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61B-B987-4621-BDAB-DE2EB09C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1DDC-92D1-4F79-8246-41685F34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BD4-A971-4E16-89AF-17D462C2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755-A23A-4AC2-95CB-65FDD2ED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47F4-E2B8-4CFD-8DA3-E37FD20C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6653-85F5-4EED-81CF-47B3F6B5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9468-96F0-47EB-B360-F9645554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4BD30-83FA-4F43-9095-8044509BF58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41558-E720-4E07-BAEE-2C07EFB8527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22:27Z</dcterms:created>
  <dc:creator>최봉수</dc:creator>
  <dc:description/>
  <dc:language>en-US</dc:language>
  <cp:lastModifiedBy>맛있다 군만두</cp:lastModifiedBy>
  <dcterms:modified xsi:type="dcterms:W3CDTF">2024-10-01T03:09:13Z</dcterms:modified>
  <cp:revision>3</cp:revision>
  <dc:subject/>
  <dc:title>슬라이드 1</dc:title>
</cp:coreProperties>
</file>