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CC0-E024-4684-9FCC-410E039E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08E-C78E-470D-8EA8-68175487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E06-499E-4536-B22F-E36BD07F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CA1-5907-4F73-B0E2-F0A2BA85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634-8DD9-4CAC-9A41-2622E8A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153F-74DC-4437-BE07-B1EF3E37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0F7-860A-46ED-A221-969DA629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E69-DAC5-4AEF-8F8B-A12289B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37E-57DB-4D31-B656-AC77479F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B0B-9059-4238-AF92-C3CFA85A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8AF-EE29-4B2C-B3F3-EDE16BD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715-9B91-42D0-B766-1D6A5C8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32633-88B7-4EAD-BB57-83E4031138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57F8C-7F9D-4BF7-B3DD-15C5C8AA374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22:27Z</dcterms:created>
  <dc:creator>최봉수</dc:creator>
  <dc:description/>
  <dc:language>en-US</dc:language>
  <cp:lastModifiedBy>맛있다 군만두</cp:lastModifiedBy>
  <dcterms:modified xsi:type="dcterms:W3CDTF">2024-10-01T03:09:13Z</dcterms:modified>
  <cp:revision>3</cp:revision>
  <dc:subject/>
  <dc:title>슬라이드 1</dc:title>
</cp:coreProperties>
</file>