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D63-8160-420C-A2AE-B5FCFF42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593-DD19-414A-AEB8-1C8EAB1C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A72-875D-4A7A-875A-B99C941D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7ACC-0AB9-4BAC-A94B-D606560E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53B-46C2-465D-B8BA-991B3BCB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B7F-9F12-45C6-954C-D5E1318D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B59-FCF0-46B7-9A7A-1B5DEC43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044-4C9B-4539-83CA-21577742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D4E-EE67-4640-9C3A-80169248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B272-156A-4697-A587-C29F5C8C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39D-94E9-47A6-A782-B0F19003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2A6-A37E-453C-8384-8AD99D79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59F2-5567-4D62-B8AC-FA3B280CB10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8T20:52:36Z</dcterms:modified>
  <cp:revision>24</cp:revision>
  <dc:subject/>
  <dc:title>슬라이드 1</dc:title>
</cp:coreProperties>
</file>