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CB1-5234-4151-84AE-ED7DBCBA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A98-5D4A-4FDB-8073-F2A23ABF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5EB-5891-4E0F-B165-69FE9DEB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633-9585-4EB6-B9D4-2E1B7E77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B92-CA5A-4A26-BFE9-DC809B42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0C3-BEAF-4F64-B5AD-F0D93E54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EEE-A281-4EA6-8D29-6AC9C198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249-6D67-4123-AD76-C5B2FA12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716-9437-41F1-9863-8269131D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2F4-26AD-49CE-8C98-2D809367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DEEE-6CC7-4674-920D-FBC46378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06D-366F-45EA-800E-AD9EE408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55C8-4F3C-422F-A5C5-44968A01E83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8T20:52:36Z</dcterms:modified>
  <cp:revision>24</cp:revision>
  <dc:subject/>
  <dc:title>슬라이드 1</dc:title>
</cp:coreProperties>
</file>